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dailydou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400" y="685440"/>
            <a:ext cx="529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5C21-4039-459D-B93F-56A31934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518-665A-4981-A523-A3D75CE7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AAF-6A94-4676-8CB7-5F372B123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8AE4-3C3A-4E5F-BBAD-AFF5F725A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C362-59E5-44E0-996F-5CD2EDD5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6F0-BF53-4B54-B2A8-03AA52EE0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F67-706F-41E0-B60A-AF4A6C37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D0AB-9A58-4C87-A8AB-78B51D49D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66A-537F-4C0E-BA53-54426A73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5C4-44E6-4896-96DE-868F6E25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855C-5F9C-41E0-9364-E7F06FFD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2BA9-43EF-4B33-916D-33712307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5DF-050E-4D69-90E4-480E992C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7495-8D7B-4382-9103-E5EBD537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21D-2C7E-490D-9903-7AAB0640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C34-8259-4AD2-91F8-ED28DC25C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4E3-F043-4E52-B5C2-B028D183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E7B-862C-4D99-BC0E-B0F1C2D8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9702-7F9C-45F0-9B28-7CB3B504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4CA4-10BF-41B0-BADE-BA19A6E2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548-B62C-4B79-A39B-82D5B629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8F9-BDFD-403E-BC0B-9CF20CC1C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668-7226-468D-9E9E-396C4BC93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8BAF-19B3-49C9-A0AC-D01E43EF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D90-965D-4180-882A-F458C64A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05F7-BD44-4B61-B87C-BF3041FEB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DA1-0F2A-4FD9-AC46-85C729A7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1BA-267F-4943-B604-BBC5159C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8DF5-D6C2-4330-BBB2-3453F9F6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EB2-02B6-4BE4-B0AB-9E0FF266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035F-F8B0-43E1-8662-DF627901A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801A-E547-45CB-A3D8-4BD6FC45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BB70-FC92-49E7-92AE-43200CFB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FD1-B420-46D3-989F-314C2CA0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FBD8-F6D1-482A-B72A-AC7F21F6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561-EC2D-49FA-ABFF-CF8CB1B4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72B1-0C60-4531-8710-221D7380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6AC-25F9-4378-ACBF-68A49DCE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619-6C5A-4179-8CAD-8DE58AF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306-2353-41A2-9B35-BCD8BB1E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59C-5AD7-48DE-8C04-48A46B2B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374-15E0-4975-91AB-CD79F71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C68-225E-4628-B952-B4547C19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245-FA10-415F-971E-B1A3AEF0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85F-733A-43A6-8066-CAB0CBE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42-981A-468A-8418-0B66FA4D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593-CCB5-4ED9-83A4-AFC3095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4A5-3C25-4C2F-980C-059870F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E90-5744-4D95-8D50-6F81AE1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47E31596-5B8A-4AE8-9337-E896FFAEA6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slide" Target="slide11.xml"/><Relationship Id="rId5" Type="http://schemas.openxmlformats.org/officeDocument/2006/relationships/slide" Target="slide27.xml"/><Relationship Id="rId6" Type="http://schemas.openxmlformats.org/officeDocument/2006/relationships/slide" Target="slide32.xml"/><Relationship Id="rId7" Type="http://schemas.openxmlformats.org/officeDocument/2006/relationships/slide" Target="slide7.xml"/><Relationship Id="rId8" Type="http://schemas.openxmlformats.org/officeDocument/2006/relationships/slide" Target="slide33.xml"/><Relationship Id="rId9" Type="http://schemas.openxmlformats.org/officeDocument/2006/relationships/slide" Target="slide28.xml"/><Relationship Id="rId10" Type="http://schemas.openxmlformats.org/officeDocument/2006/relationships/slide" Target="slide23.xml"/><Relationship Id="rId11" Type="http://schemas.openxmlformats.org/officeDocument/2006/relationships/slide" Target="slide17.xml"/><Relationship Id="rId12" Type="http://schemas.openxmlformats.org/officeDocument/2006/relationships/slide" Target="slide12.xml"/><Relationship Id="rId13" Type="http://schemas.openxmlformats.org/officeDocument/2006/relationships/slide" Target="slide8.xml"/><Relationship Id="rId14" Type="http://schemas.openxmlformats.org/officeDocument/2006/relationships/slide" Target="slide13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34.xml"/><Relationship Id="rId20" Type="http://schemas.openxmlformats.org/officeDocument/2006/relationships/slide" Target="slide9.xml"/><Relationship Id="rId21" Type="http://schemas.openxmlformats.org/officeDocument/2006/relationships/slide" Target="slide14.xml"/><Relationship Id="rId22" Type="http://schemas.openxmlformats.org/officeDocument/2006/relationships/slide" Target="slide25.xml"/><Relationship Id="rId23" Type="http://schemas.openxmlformats.org/officeDocument/2006/relationships/slide" Target="slide30.xml"/><Relationship Id="rId24" Type="http://schemas.openxmlformats.org/officeDocument/2006/relationships/slide" Target="slide35.xml"/><Relationship Id="rId25" Type="http://schemas.openxmlformats.org/officeDocument/2006/relationships/slide" Target="slide10.xml"/><Relationship Id="rId26" Type="http://schemas.openxmlformats.org/officeDocument/2006/relationships/slide" Target="slide31.xml"/><Relationship Id="rId27" Type="http://schemas.openxmlformats.org/officeDocument/2006/relationships/slide" Target="slide15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6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19.xml"/><Relationship Id="rId34" Type="http://schemas.openxmlformats.org/officeDocument/2006/relationships/audio" Target="../media/boardfill.wav"/><Relationship Id="rId35" Type="http://schemas.openxmlformats.org/officeDocument/2006/relationships/audio" Target="../media/WHOOSH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gas undergoes elastic collis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deal g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needs to be added to a regular gas to create plasm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e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12268080" y="7467480"/>
            <a:ext cx="1752840" cy="1524240"/>
          </a:xfrm>
          <a:custGeom>
            <a:avLst/>
            <a:gdLst>
              <a:gd name="textAreaLeft" fmla="*/ 98640 w 1752840"/>
              <a:gd name="textAreaRight" fmla="*/ 1654200 w 17528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1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5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19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1" y="7849"/>
                </a:lnTo>
                <a:cubicBezTo>
                  <a:pt x="10391" y="6709"/>
                  <a:pt x="11314" y="5821"/>
                  <a:pt x="12419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19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ubstance changes the organization of its atoms in one or two dimensions when it melt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liquid crys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kind of matter is the organization of atoms haphazar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Amorphous sol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 Plasmas are neutral, but what property do they have in common with metal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Conductiv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Plasma and Other Solid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Peanut butter, cotton candy and wax are all examples of w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morphous sol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6705720" y="7707240"/>
            <a:ext cx="1600200" cy="167652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520"/>
              <a:gd name="textAreaBottom" fmla="*/ 1572840 h 1676520"/>
            </a:gdLst>
            <a:ahLst/>
            <a:rect l="textAreaLeft" t="textAreaTop" r="textAreaRight" b="textAreaBottom"/>
            <a:pathLst>
              <a:path w="21600" h="22630">
                <a:moveTo>
                  <a:pt x="0" y="0"/>
                </a:moveTo>
                <a:lnTo>
                  <a:pt x="21600" y="0"/>
                </a:lnTo>
                <a:lnTo>
                  <a:pt x="21600" y="22630"/>
                </a:lnTo>
                <a:lnTo>
                  <a:pt x="0" y="22630"/>
                </a:lnTo>
                <a:close/>
              </a:path>
              <a:path fill="lightenLess" w="21600" h="22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0">
                <a:moveTo>
                  <a:pt x="21600" y="0"/>
                </a:moveTo>
                <a:lnTo>
                  <a:pt x="21600" y="22630"/>
                </a:lnTo>
                <a:lnTo>
                  <a:pt x="20200" y="21230"/>
                </a:lnTo>
                <a:lnTo>
                  <a:pt x="20200" y="1400"/>
                </a:lnTo>
                <a:close/>
              </a:path>
              <a:path fill="darkenLess" w="21600" h="22630">
                <a:moveTo>
                  <a:pt x="21600" y="22630"/>
                </a:moveTo>
                <a:lnTo>
                  <a:pt x="0" y="22630"/>
                </a:lnTo>
                <a:lnTo>
                  <a:pt x="1400" y="21230"/>
                </a:lnTo>
                <a:lnTo>
                  <a:pt x="20200" y="21230"/>
                </a:lnTo>
                <a:close/>
              </a:path>
              <a:path fill="lighten" w="21600" h="22630">
                <a:moveTo>
                  <a:pt x="0" y="22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0"/>
                </a:lnTo>
                <a:close/>
              </a:path>
              <a:path fill="darken" w="21600" h="22630">
                <a:moveTo>
                  <a:pt x="10800" y="1531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30">
                <a:moveTo>
                  <a:pt x="11905" y="14796"/>
                </a:moveTo>
                <a:lnTo>
                  <a:pt x="11905" y="12838"/>
                </a:lnTo>
                <a:cubicBezTo>
                  <a:pt x="11905" y="12011"/>
                  <a:pt x="12236" y="11315"/>
                  <a:pt x="12837" y="11315"/>
                </a:cubicBezTo>
                <a:cubicBezTo>
                  <a:pt x="13968" y="11315"/>
                  <a:pt x="14865" y="9948"/>
                  <a:pt x="14865" y="8364"/>
                </a:cubicBezTo>
                <a:cubicBezTo>
                  <a:pt x="14865" y="6049"/>
                  <a:pt x="13011" y="4308"/>
                  <a:pt x="10800" y="4308"/>
                </a:cubicBezTo>
                <a:cubicBezTo>
                  <a:pt x="8589" y="4308"/>
                  <a:pt x="6918" y="6049"/>
                  <a:pt x="6918" y="8364"/>
                </a:cubicBezTo>
                <a:lnTo>
                  <a:pt x="8772" y="8364"/>
                </a:lnTo>
                <a:cubicBezTo>
                  <a:pt x="8772" y="7224"/>
                  <a:pt x="9695" y="6336"/>
                  <a:pt x="10800" y="6336"/>
                </a:cubicBezTo>
                <a:cubicBezTo>
                  <a:pt x="11905" y="6336"/>
                  <a:pt x="12837" y="7224"/>
                  <a:pt x="12837" y="8364"/>
                </a:cubicBezTo>
                <a:cubicBezTo>
                  <a:pt x="12837" y="9104"/>
                  <a:pt x="12367" y="9835"/>
                  <a:pt x="11905" y="9835"/>
                </a:cubicBezTo>
                <a:cubicBezTo>
                  <a:pt x="10800" y="9835"/>
                  <a:pt x="9695" y="11315"/>
                  <a:pt x="9695" y="12838"/>
                </a:cubicBezTo>
                <a:lnTo>
                  <a:pt x="9695" y="14796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at is the term used to describe the constant random motion of gas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rownian Mo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kinds of forces do not exist for ideal gas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tractive and repulsive for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rId1" action="ppaction://hlinksldjump"/>
          </p:cNvPr>
          <p:cNvSpPr/>
          <p:nvPr/>
        </p:nvSpPr>
        <p:spPr>
          <a:xfrm>
            <a:off x="9753480" y="76960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9" h="21600">
                <a:moveTo>
                  <a:pt x="13610" y="14281"/>
                </a:moveTo>
                <a:lnTo>
                  <a:pt x="13610" y="12323"/>
                </a:lnTo>
                <a:cubicBezTo>
                  <a:pt x="13610" y="11496"/>
                  <a:pt x="13941" y="10800"/>
                  <a:pt x="14541" y="10800"/>
                </a:cubicBezTo>
                <a:cubicBezTo>
                  <a:pt x="15673" y="10800"/>
                  <a:pt x="16569" y="9434"/>
                  <a:pt x="16569" y="7849"/>
                </a:cubicBezTo>
                <a:cubicBezTo>
                  <a:pt x="16569" y="5534"/>
                  <a:pt x="14715" y="3794"/>
                  <a:pt x="12505" y="3794"/>
                </a:cubicBezTo>
                <a:cubicBezTo>
                  <a:pt x="10294" y="3794"/>
                  <a:pt x="8623" y="5534"/>
                  <a:pt x="8623" y="7849"/>
                </a:cubicBezTo>
                <a:lnTo>
                  <a:pt x="10477" y="7849"/>
                </a:lnTo>
                <a:cubicBezTo>
                  <a:pt x="10477" y="6709"/>
                  <a:pt x="11399" y="5821"/>
                  <a:pt x="12505" y="5821"/>
                </a:cubicBezTo>
                <a:cubicBezTo>
                  <a:pt x="13610" y="5821"/>
                  <a:pt x="14541" y="6709"/>
                  <a:pt x="14541" y="7849"/>
                </a:cubicBezTo>
                <a:cubicBezTo>
                  <a:pt x="14541" y="8589"/>
                  <a:pt x="14071" y="9320"/>
                  <a:pt x="13610" y="9320"/>
                </a:cubicBezTo>
                <a:cubicBezTo>
                  <a:pt x="12505" y="9320"/>
                  <a:pt x="11399" y="10800"/>
                  <a:pt x="11399" y="12323"/>
                </a:cubicBezTo>
                <a:lnTo>
                  <a:pt x="11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37242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orce do particles exert on the walls of containers when they collide with th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63520" y="6324480"/>
            <a:ext cx="132145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essur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312800" cy="1133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65000"/>
          </a:bodyPr>
          <a:p>
            <a:pPr marL="249480" indent="-2494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Q  How much energy is lost in an elastic collis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03480" y="4952880"/>
            <a:ext cx="13214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inetic Theory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How does the size of gas particles compare to spaces between th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hey are smaller in si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particles with different masses finish a race at the same time, which particle has the greater kinetic energ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larger (more massive) o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095880" y="866304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0" h="21600">
                <a:moveTo>
                  <a:pt x="14605" y="14281"/>
                </a:moveTo>
                <a:lnTo>
                  <a:pt x="14605" y="12323"/>
                </a:lnTo>
                <a:cubicBezTo>
                  <a:pt x="14605" y="11496"/>
                  <a:pt x="14936" y="10800"/>
                  <a:pt x="15537" y="10800"/>
                </a:cubicBezTo>
                <a:cubicBezTo>
                  <a:pt x="16668" y="10800"/>
                  <a:pt x="17565" y="9434"/>
                  <a:pt x="17565" y="7849"/>
                </a:cubicBezTo>
                <a:cubicBezTo>
                  <a:pt x="17565" y="5534"/>
                  <a:pt x="15711" y="3794"/>
                  <a:pt x="13500" y="3794"/>
                </a:cubicBezTo>
                <a:cubicBezTo>
                  <a:pt x="11289" y="3794"/>
                  <a:pt x="9618" y="5534"/>
                  <a:pt x="9618" y="7849"/>
                </a:cubicBezTo>
                <a:lnTo>
                  <a:pt x="11472" y="7849"/>
                </a:lnTo>
                <a:cubicBezTo>
                  <a:pt x="11472" y="6709"/>
                  <a:pt x="12395" y="5821"/>
                  <a:pt x="13500" y="5821"/>
                </a:cubicBezTo>
                <a:cubicBezTo>
                  <a:pt x="14605" y="5821"/>
                  <a:pt x="15537" y="6709"/>
                  <a:pt x="15537" y="7849"/>
                </a:cubicBezTo>
                <a:cubicBezTo>
                  <a:pt x="15537" y="8589"/>
                  <a:pt x="15067" y="9320"/>
                  <a:pt x="14605" y="9320"/>
                </a:cubicBezTo>
                <a:cubicBezTo>
                  <a:pt x="13500" y="9320"/>
                  <a:pt x="12395" y="10800"/>
                  <a:pt x="12395" y="12323"/>
                </a:cubicBezTo>
                <a:lnTo>
                  <a:pt x="123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he surface area of a liquid is small, then the rate of evaporation will 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l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05919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process by which particles fill a space due to their constant random mo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Dif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257472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3000"/>
          </a:bodyPr>
          <a:p>
            <a:pPr marL="357120" indent="-357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particles have the same mass but different kinetic energies, which particle moves fas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The one with more kinetic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6477120" y="861048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ate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0000"/>
          </a:bodyPr>
          <a:p>
            <a:pPr marL="345600" indent="-34560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f two containers filled with oxygen gas are heated, one to 200K and one to 300K, which one will have gas particles with the greatest spe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5600" indent="-34560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one heated to 300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1277720" y="838188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893880"/>
            <a:ext cx="140745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t what temperature do particles stop mov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bsolute Ze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41508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en external pressure equals what pressure, does boiling occu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Vapor press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term that describes the amount of energy (heat) that 1 kg of a water must absorb to turn into a vap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Heat of vaporiz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1658600" y="77407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1" h="21600">
                <a:moveTo>
                  <a:pt x="13811" y="14281"/>
                </a:moveTo>
                <a:lnTo>
                  <a:pt x="13811" y="12323"/>
                </a:lnTo>
                <a:cubicBezTo>
                  <a:pt x="13811" y="11496"/>
                  <a:pt x="14142" y="10800"/>
                  <a:pt x="14742" y="10800"/>
                </a:cubicBezTo>
                <a:cubicBezTo>
                  <a:pt x="15874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6" y="3794"/>
                </a:cubicBezTo>
                <a:cubicBezTo>
                  <a:pt x="10495" y="3794"/>
                  <a:pt x="8824" y="5534"/>
                  <a:pt x="8824" y="7849"/>
                </a:cubicBezTo>
                <a:lnTo>
                  <a:pt x="10678" y="7849"/>
                </a:lnTo>
                <a:cubicBezTo>
                  <a:pt x="10678" y="6709"/>
                  <a:pt x="11600" y="5821"/>
                  <a:pt x="12706" y="5821"/>
                </a:cubicBezTo>
                <a:cubicBezTo>
                  <a:pt x="13811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1" y="9320"/>
                </a:cubicBezTo>
                <a:cubicBezTo>
                  <a:pt x="12706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temperature scale that is a direct measure of the kinetic energy of particl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Kelv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4960" y="893880"/>
            <a:ext cx="1392228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Temperature and Pressure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300K in degrees celsi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27 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s freezing an endothermic or exothermic proce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xotherm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when a solid turns directly to a gas without ever becoming a liqu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ublim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1963520" y="800100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when a gas is converted to a liqu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ondens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45820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t what temperature does a liquid turn into a sol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eezing poi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nge of State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related to the energy released when 1 kg of a substance solidifies at its freezing po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eat of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991720" y="7769160"/>
            <a:ext cx="1447560" cy="1295640"/>
          </a:xfrm>
          <a:custGeom>
            <a:avLst/>
            <a:gdLst>
              <a:gd name="textAreaLeft" fmla="*/ 83880 w 1447560"/>
              <a:gd name="textAreaRight" fmla="*/ 1363680 w 144756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2" h="21600">
                <a:moveTo>
                  <a:pt x="0" y="0"/>
                </a:moveTo>
                <a:lnTo>
                  <a:pt x="24132" y="0"/>
                </a:lnTo>
                <a:lnTo>
                  <a:pt x="24132" y="21600"/>
                </a:lnTo>
                <a:lnTo>
                  <a:pt x="0" y="21600"/>
                </a:lnTo>
                <a:close/>
              </a:path>
              <a:path fill="lightenLess" w="24132" h="21600">
                <a:moveTo>
                  <a:pt x="0" y="0"/>
                </a:moveTo>
                <a:lnTo>
                  <a:pt x="24132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2" h="21600">
                <a:moveTo>
                  <a:pt x="24132" y="0"/>
                </a:moveTo>
                <a:lnTo>
                  <a:pt x="24132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2" h="21600">
                <a:moveTo>
                  <a:pt x="241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2" h="21600">
                <a:moveTo>
                  <a:pt x="120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32" h="21600">
                <a:moveTo>
                  <a:pt x="13171" y="14281"/>
                </a:moveTo>
                <a:lnTo>
                  <a:pt x="13171" y="12323"/>
                </a:lnTo>
                <a:cubicBezTo>
                  <a:pt x="13171" y="11496"/>
                  <a:pt x="13502" y="10800"/>
                  <a:pt x="14103" y="10800"/>
                </a:cubicBezTo>
                <a:cubicBezTo>
                  <a:pt x="15234" y="10800"/>
                  <a:pt x="16131" y="9434"/>
                  <a:pt x="16131" y="7849"/>
                </a:cubicBezTo>
                <a:cubicBezTo>
                  <a:pt x="16131" y="5534"/>
                  <a:pt x="14277" y="3794"/>
                  <a:pt x="12066" y="3794"/>
                </a:cubicBezTo>
                <a:cubicBezTo>
                  <a:pt x="9855" y="3794"/>
                  <a:pt x="8184" y="5534"/>
                  <a:pt x="8184" y="7849"/>
                </a:cubicBezTo>
                <a:lnTo>
                  <a:pt x="10038" y="7849"/>
                </a:lnTo>
                <a:cubicBezTo>
                  <a:pt x="10038" y="6709"/>
                  <a:pt x="10961" y="5821"/>
                  <a:pt x="12066" y="5821"/>
                </a:cubicBezTo>
                <a:cubicBezTo>
                  <a:pt x="13171" y="5821"/>
                  <a:pt x="14103" y="6709"/>
                  <a:pt x="14103" y="7849"/>
                </a:cubicBezTo>
                <a:cubicBezTo>
                  <a:pt x="14103" y="8589"/>
                  <a:pt x="13633" y="9320"/>
                  <a:pt x="13171" y="9320"/>
                </a:cubicBezTo>
                <a:cubicBezTo>
                  <a:pt x="12066" y="9320"/>
                  <a:pt x="10961" y="10800"/>
                  <a:pt x="10961" y="12323"/>
                </a:cubicBezTo>
                <a:lnTo>
                  <a:pt x="1096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9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8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2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69720" y="893880"/>
            <a:ext cx="26672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ates of Matt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240760" y="863640"/>
            <a:ext cx="2438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a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2877920" y="446040"/>
            <a:ext cx="266688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hang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Of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7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1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7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8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9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0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1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2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3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4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5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6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7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9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0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1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3">
            <a:hlinkClick r:id="rId15" action="ppaction://hlinksldjump"/>
          </p:cNvPr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4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5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6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8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9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0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1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2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3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4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5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6">
            <a:hlinkClick r:id="rId28" action="ppaction://hlinksldjump"/>
          </p:cNvPr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7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8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10744200" y="86364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emperature and Pressur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Double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5627520" y="88416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Kinetic Theor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4"/>
          <p:cNvSpPr/>
          <p:nvPr/>
        </p:nvSpPr>
        <p:spPr>
          <a:xfrm>
            <a:off x="5791320" y="716292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2"/>
          <p:cNvSpPr/>
          <p:nvPr/>
        </p:nvSpPr>
        <p:spPr>
          <a:xfrm>
            <a:off x="3124080" y="8953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lasma and other soli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ate of matter has a definite volume and an indefinite sha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liqu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kind of motion describes the movement of atoms in a sol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vib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the term used to describe the organization of atoms in a soli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Crystal lat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States of Matter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ate of matter is most compressib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G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Dawn</cp:lastModifiedBy>
  <dcterms:modified xsi:type="dcterms:W3CDTF">2013-03-18T01:26:20Z</dcterms:modified>
  <cp:revision>94</cp:revision>
  <dc:subject/>
  <dc:title>Jeopardy</dc:title>
</cp:coreProperties>
</file>